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beam.wav" ContentType="audio/x-wav"/>
  <Override PartName="/ppt/media/image4.jpeg" ContentType="image/jpeg"/>
  <Override PartName="/ppt/media/image5.jpeg" ContentType="image/jpeg"/>
  <Override PartName="/ppt/media/apert2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6D95-6FC0-4C71-98FB-9E9007AB7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5917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6144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89000" y="4703400"/>
            <a:ext cx="846144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1E93-4805-418C-B580-860A0908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5917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2884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4840" y="2223720"/>
            <a:ext cx="412884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89000" y="4703400"/>
            <a:ext cx="412884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4840" y="4703400"/>
            <a:ext cx="412884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01E2-A2ED-498F-8895-7B60CF70B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5917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27244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49920" y="2223720"/>
            <a:ext cx="27244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11200" y="2223720"/>
            <a:ext cx="27244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89000" y="4703400"/>
            <a:ext cx="27244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49920" y="4703400"/>
            <a:ext cx="27244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11200" y="4703400"/>
            <a:ext cx="27244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B1D3-2FA8-4335-B7D6-B98846786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5917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89000" y="2223720"/>
            <a:ext cx="8461440" cy="47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5917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61440" cy="474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5917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28840" cy="474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424840" y="2223720"/>
            <a:ext cx="4128840" cy="474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5917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1240" y="117360"/>
            <a:ext cx="859176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5917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2884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424840" y="2223720"/>
            <a:ext cx="4128840" cy="474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89000" y="4703400"/>
            <a:ext cx="412884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5917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89000" y="2223720"/>
            <a:ext cx="8461440" cy="47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030B-04A0-4AD6-B635-B4B8CE76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5917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28840" cy="474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24840" y="2223720"/>
            <a:ext cx="412884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424840" y="4703400"/>
            <a:ext cx="412884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5917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2884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24840" y="2223720"/>
            <a:ext cx="412884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89000" y="4703400"/>
            <a:ext cx="846144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5917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6144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89000" y="4703400"/>
            <a:ext cx="846144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5917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2884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24840" y="2223720"/>
            <a:ext cx="412884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89000" y="4703400"/>
            <a:ext cx="412884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424840" y="4703400"/>
            <a:ext cx="412884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5917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27244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49920" y="2223720"/>
            <a:ext cx="27244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11200" y="2223720"/>
            <a:ext cx="27244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89000" y="4703400"/>
            <a:ext cx="27244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949920" y="4703400"/>
            <a:ext cx="27244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811200" y="4703400"/>
            <a:ext cx="27244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5917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61440" cy="474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1A0C-4560-489D-B654-0E565435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5917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28840" cy="474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4840" y="2223720"/>
            <a:ext cx="4128840" cy="474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9872-FC5E-4E5D-9DC6-3AA36D70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5917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77A7-A46F-4446-BA45-FBCD660F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117360"/>
            <a:ext cx="859176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66A1-D29F-4EAE-85E1-98C41B8D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5917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2884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4840" y="2223720"/>
            <a:ext cx="4128840" cy="474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89000" y="4703400"/>
            <a:ext cx="412884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99ED-328A-4796-A9A8-7773835D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5917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28840" cy="474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4840" y="2223720"/>
            <a:ext cx="412884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4840" y="4703400"/>
            <a:ext cx="412884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6902-057B-4934-AEBB-ED619512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5917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2884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4840" y="2223720"/>
            <a:ext cx="412884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89000" y="4703400"/>
            <a:ext cx="846144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B492-C370-4E1D-BFA0-E4A3384B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5364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02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78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306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5A42A-E3CC-458D-B806-3C73E5C350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5917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89000" y="2223720"/>
            <a:ext cx="8461440" cy="474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beam.wav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pert2.wav"/><Relationship Id="rId2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readingrockets.org/books/interviews/" TargetMode="External"/><Relationship Id="rId2" Type="http://schemas.openxmlformats.org/officeDocument/2006/relationships/hyperlink" Target="http://www.wimpykid.com/" TargetMode="External"/><Relationship Id="rId3" Type="http://schemas.openxmlformats.org/officeDocument/2006/relationships/hyperlink" Target="http://www.scholastic.com/teachers/lesson-plan/author-video-index" TargetMode="External"/><Relationship Id="rId4" Type="http://schemas.openxmlformats.org/officeDocument/2006/relationships/hyperlink" Target="file:///click%20here%20for%20interview" TargetMode="External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Introduction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me is Landon Simmon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 presintation is about the author/illistrator Jeff Kinney  Hope you like it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429000" y="5029200"/>
            <a:ext cx="3417840" cy="2286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800520" y="137160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Biography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390320"/>
            <a:ext cx="4114800" cy="592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615960"/>
                <a:tab algn="l" pos="1073160"/>
                <a:tab algn="l" pos="1530360"/>
                <a:tab algn="l" pos="1987560"/>
                <a:tab algn="l" pos="2444760"/>
                <a:tab algn="l" pos="2901960"/>
                <a:tab algn="l" pos="3359160"/>
                <a:tab algn="l" pos="3816360"/>
                <a:tab algn="l" pos="4273560"/>
                <a:tab algn="l" pos="4730760"/>
                <a:tab algn="l" pos="5187960"/>
                <a:tab algn="l" pos="5645160"/>
                <a:tab algn="l" pos="6102360"/>
                <a:tab algn="l" pos="6559560"/>
                <a:tab algn="l" pos="7016760"/>
                <a:tab algn="l" pos="7473960"/>
                <a:tab algn="l" pos="7931160"/>
                <a:tab algn="l" pos="8388360"/>
                <a:tab algn="l" pos="8845560"/>
                <a:tab algn="l" pos="9302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Jeff Kinney  was born on February 19,1971 in Fort Washington Maryland. As a kid Jeff Kinney did not want to be an author. Later in his child hood he was inspired by Judy Blume J.R.R Tolkien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615960"/>
                <a:tab algn="l" pos="1073160"/>
                <a:tab algn="l" pos="1530360"/>
                <a:tab algn="l" pos="1987560"/>
                <a:tab algn="l" pos="2444760"/>
                <a:tab algn="l" pos="2901960"/>
                <a:tab algn="l" pos="3359160"/>
                <a:tab algn="l" pos="3816360"/>
                <a:tab algn="l" pos="4273560"/>
                <a:tab algn="l" pos="4730760"/>
                <a:tab algn="l" pos="5187960"/>
                <a:tab algn="l" pos="5645160"/>
                <a:tab algn="l" pos="6102360"/>
                <a:tab algn="l" pos="6559560"/>
                <a:tab algn="l" pos="7016760"/>
                <a:tab algn="l" pos="7473960"/>
                <a:tab algn="l" pos="7931160"/>
                <a:tab algn="l" pos="8388360"/>
                <a:tab algn="l" pos="8845560"/>
                <a:tab algn="l" pos="9302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626080" y="1328760"/>
            <a:ext cx="4137120" cy="5919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9824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615960"/>
                <a:tab algn="l" pos="1073160"/>
                <a:tab algn="l" pos="1530360"/>
                <a:tab algn="l" pos="1987560"/>
                <a:tab algn="l" pos="2444760"/>
                <a:tab algn="l" pos="2901960"/>
                <a:tab algn="l" pos="3359160"/>
                <a:tab algn="l" pos="3816360"/>
                <a:tab algn="l" pos="4273560"/>
                <a:tab algn="l" pos="4730760"/>
                <a:tab algn="l" pos="5187960"/>
                <a:tab algn="l" pos="5645160"/>
                <a:tab algn="l" pos="6102360"/>
                <a:tab algn="l" pos="6559560"/>
                <a:tab algn="l" pos="7016760"/>
                <a:tab algn="l" pos="7473960"/>
                <a:tab algn="l" pos="7931160"/>
                <a:tab algn="l" pos="8388360"/>
                <a:tab algn="l" pos="8845560"/>
                <a:tab algn="l" pos="9302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  <a:ea typeface="Arial Unicode MS"/>
              </a:rPr>
              <a:t> 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9824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615960"/>
                <a:tab algn="l" pos="1073160"/>
                <a:tab algn="l" pos="1530360"/>
                <a:tab algn="l" pos="1987560"/>
                <a:tab algn="l" pos="2444760"/>
                <a:tab algn="l" pos="2901960"/>
                <a:tab algn="l" pos="3359160"/>
                <a:tab algn="l" pos="3816360"/>
                <a:tab algn="l" pos="4273560"/>
                <a:tab algn="l" pos="4730760"/>
                <a:tab algn="l" pos="5187960"/>
                <a:tab algn="l" pos="5645160"/>
                <a:tab algn="l" pos="6102360"/>
                <a:tab algn="l" pos="6559560"/>
                <a:tab algn="l" pos="7016760"/>
                <a:tab algn="l" pos="7473960"/>
                <a:tab algn="l" pos="7931160"/>
                <a:tab algn="l" pos="8388360"/>
                <a:tab algn="l" pos="8845560"/>
                <a:tab algn="l" pos="9302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  <a:ea typeface="Arial Unicode MS"/>
              </a:rPr>
              <a:t>While a student in the university of Maryland. Then he decided to be a cartoonist his first comic was Igdoof In  1998 he was married to Julie Kinney and he also began thinking of ideas for Diary of a Wimpy Kid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6400800"/>
            <a:ext cx="244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5932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The City Jeff Kinney was born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71400" y="1859040"/>
            <a:ext cx="87012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5932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The city Jeff Kinney currently lives in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0880" y="11700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Being an Author and Other Things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4135320" cy="6826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The order of the diary of wimpy kid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39480" indent="-3268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Diary of a Wimpy kid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39480" indent="-3268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Diary of a Wimpy kid Rodrick rules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39480" indent="-3268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Diary of a Wimpy kid The Last Straw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39480" indent="-3268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Diary of a Wimpy kid Dog Days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39480" indent="-3268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Diary of a Wimpy kid Cabin Fever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39480" indent="-3268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Diary of a Wimpy kid The Ugly truth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39480" indent="-3268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Diary of a Wimpy kid The Third Wheel 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4135320" cy="6373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  <a:ea typeface="Arial Unicode MS"/>
              </a:rPr>
              <a:t>Jeff Kinney is also a great online game developer,cartoonist and designer. He is the creater of Poptropica known by children all around the world its a online roleplaying game designed for kids 6-15 where players travel between islands to complete quests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1240" y="161640"/>
            <a:ext cx="86011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4000" spc="-1" strike="noStrike">
                <a:solidFill>
                  <a:srgbClr val="e6e6e6"/>
                </a:solidFill>
                <a:latin typeface="Arial"/>
              </a:rPr>
              <a:t>Current Life and awards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8640" y="2224080"/>
            <a:ext cx="413388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Jeff kinney is now 41 Living in Plainville Massachusetts  with his Wife julie and two sons Will and Grant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428800" y="2224080"/>
            <a:ext cx="413388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  <a:ea typeface="Arial Unicode MS"/>
              </a:rPr>
              <a:t>Jeff Kinney is a best selling author and illustrator. He also won the New york times best book of the year award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1" name="apert2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0880" y="117000"/>
            <a:ext cx="859644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Skills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14040" y="1968120"/>
            <a:ext cx="846612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-339840" algn="ctr">
              <a:lnSpc>
                <a:spcPct val="95000"/>
              </a:lnSpc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1makes story reallistic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-339840" algn="ctr">
              <a:lnSpc>
                <a:spcPct val="95000"/>
              </a:lnSpc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2 makes me laugh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-339840" algn="ctr">
              <a:lnSpc>
                <a:spcPct val="95000"/>
              </a:lnSpc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3 all characters are described gre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0880" y="162000"/>
            <a:ext cx="859644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Sources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43120" y="3654360"/>
            <a:ext cx="49942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readingrockets.org/books/interview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48080" y="3135240"/>
            <a:ext cx="3384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wimpykid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440" y="2541600"/>
            <a:ext cx="6910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scholastic.com/teachers/lesson-plan/author-video-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4591080"/>
            <a:ext cx="3367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click here for int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9T13:28:44Z</dcterms:created>
  <dc:creator/>
  <dc:description/>
  <dc:language>en-US</dc:language>
  <cp:lastModifiedBy/>
  <cp:revision>1</cp:revision>
  <dc:subject/>
  <dc:title/>
</cp:coreProperties>
</file>